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1.png" ContentType="image/png"/>
  <Override PartName="/ppt/media/image6.png" ContentType="image/png"/>
  <Override PartName="/ppt/media/image5.wmf" ContentType="image/x-wmf"/>
  <Override PartName="/ppt/media/image4.png" ContentType="image/png"/>
  <Override PartName="/ppt/media/image3.jpeg" ContentType="image/jpeg"/>
  <Override PartName="/ppt/media/image24.jpeg" ContentType="image/jpeg"/>
  <Override PartName="/ppt/media/image26.wmf" ContentType="image/x-wmf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90F-9EEB-4B68-B4B0-A326DCAC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894-590A-4F40-8B2F-2CCBD015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861-7C6B-4F29-8EC7-2F0BE761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895-BBC9-4ED4-9EE7-DD8EF671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A627-4C88-4CA6-9A89-07C0C65E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41F7-F9D8-4A22-990A-FBA413A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E176-07C1-4064-9615-A916501B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E94F-AE29-4FD4-A9CF-9605144A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1D14-86B5-40D3-997A-194CF26A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4F7C-20EA-43B1-80A2-60E93716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42C6-41B7-47D6-88EC-3678A1FE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7C2-CCBB-40BC-A911-9A7B26AD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7400-4164-4D00-BC99-EAE00685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FE18-5FE0-4994-B06C-5DF37CD9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52C0-9589-465E-93F9-754BE6F2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DE1A-0DDA-43F1-86EF-E3A53C5C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8F55-E9F8-43A3-9B3C-A5A6281F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10B-0DDF-4533-B7D4-B7C1F144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FEE-E9F9-4DC0-A54C-928287B2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547-A643-46FD-ABFB-8DB82E13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21E-0C61-42D0-BB99-1518B710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EEC-2144-4D49-A137-6FFA0091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41C-3D3E-4AC6-91F6-DD9B7D3C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9AD-0614-4F0F-8964-D0EF9D7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AE5C-25E8-46A7-8685-020C9077D1CE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6AC6-D508-4E00-ACCC-6BADE96675EF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6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2.xml"/><Relationship Id="rId10" Type="http://schemas.openxmlformats.org/officeDocument/2006/relationships/slide" Target="slide5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781200"/>
            <a:ext cx="8242200" cy="205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85920" y="257184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La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Bi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Sen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Democrac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Royal assent  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9" action="ppaction://hlinksldjump"/>
              </a:rPr>
              <a:t>Budget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10" action="ppaction://hlinksldjump"/>
              </a:rPr>
              <a:t>CREDI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Kevin Rudd"/>
          <p:cNvPicPr/>
          <p:nvPr/>
        </p:nvPicPr>
        <p:blipFill>
          <a:blip r:embed="rId11"/>
          <a:stretch/>
        </p:blipFill>
        <p:spPr>
          <a:xfrm>
            <a:off x="3214800" y="0"/>
            <a:ext cx="2143080" cy="1785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A rule or a set of rules recognised by the publi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4" descr="C:\Program Files\Microsoft Office\Media\CntCD1\ClipArt7\j0300864.wmf"/>
          <p:cNvPicPr/>
          <p:nvPr/>
        </p:nvPicPr>
        <p:blipFill>
          <a:blip r:embed="rId2"/>
          <a:stretch/>
        </p:blipFill>
        <p:spPr>
          <a:xfrm>
            <a:off x="4357800" y="2857680"/>
            <a:ext cx="3876480" cy="26431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A budget is how much money the government expects to collect in the coming year how they wish to spend 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 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4" descr="C:\Program Files\Microsoft Office\Media\CntCD1\ClipArt1\j0195346.wmf"/>
          <p:cNvPicPr/>
          <p:nvPr/>
        </p:nvPicPr>
        <p:blipFill>
          <a:blip r:embed="rId3"/>
          <a:stretch/>
        </p:blipFill>
        <p:spPr>
          <a:xfrm>
            <a:off x="5500800" y="3301920"/>
            <a:ext cx="3357360" cy="31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Book Antiqua"/>
              </a:rPr>
              <a:t>A royal assent is the signing of a bill by the queens representat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4" descr="C:\Program Files\Microsoft Office\Media\CntCD1\ClipArt6\j0294022.wmf"/>
          <p:cNvPicPr/>
          <p:nvPr/>
        </p:nvPicPr>
        <p:blipFill>
          <a:blip r:embed="rId2"/>
          <a:stretch/>
        </p:blipFill>
        <p:spPr>
          <a:xfrm>
            <a:off x="6786720" y="2868480"/>
            <a:ext cx="1676160" cy="327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Democracy is the idea that every one has equ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Book Antiqua"/>
              </a:rPr>
              <a:t>righ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7" descr="C:\Program Files\Microsoft Office\Media\CntCD1\ClipArt8\j0345541.wmf"/>
          <p:cNvPicPr/>
          <p:nvPr/>
        </p:nvPicPr>
        <p:blipFill>
          <a:blip r:embed="rId2"/>
          <a:stretch/>
        </p:blipFill>
        <p:spPr>
          <a:xfrm>
            <a:off x="6897600" y="3747960"/>
            <a:ext cx="1417680" cy="1773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d:\Users\KyeH.STAWELL-PS\Desktop\mr.awsm!\Untitled 71.jpg"/>
          <p:cNvPicPr/>
          <p:nvPr/>
        </p:nvPicPr>
        <p:blipFill>
          <a:blip r:embed="rId3"/>
          <a:stretch/>
        </p:blipFill>
        <p:spPr>
          <a:xfrm>
            <a:off x="1523880" y="3000240"/>
            <a:ext cx="3619800" cy="271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Users\KyeH.STAWELL-PS\Desktop\mr.awsm!\awsm symbol!.jpg"/>
          <p:cNvPicPr/>
          <p:nvPr/>
        </p:nvPicPr>
        <p:blipFill>
          <a:blip r:embed="rId2"/>
          <a:stretch/>
        </p:blipFill>
        <p:spPr>
          <a:xfrm>
            <a:off x="2133720" y="21258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85840" y="4714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See Y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A constitution is a set of rules by which a country is ru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10" descr="C:\Program Files\Microsoft Office\Media\CntCD1\Photo2\j0316715.jpg"/>
          <p:cNvPicPr/>
          <p:nvPr/>
        </p:nvPicPr>
        <p:blipFill>
          <a:blip r:embed="rId2"/>
          <a:stretch/>
        </p:blipFill>
        <p:spPr>
          <a:xfrm>
            <a:off x="5840280" y="4416480"/>
            <a:ext cx="2660760" cy="1760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d:\Users\KyeH.STAWELL-PS\AppData\Local\Microsoft\Windows\Temporary Internet Files\Content.IE5\MVO1OU00\MCj04076000000[1].wmf"/>
          <p:cNvPicPr/>
          <p:nvPr/>
        </p:nvPicPr>
        <p:blipFill>
          <a:blip r:embed="rId3"/>
          <a:stretch/>
        </p:blipFill>
        <p:spPr>
          <a:xfrm>
            <a:off x="5929200" y="2286000"/>
            <a:ext cx="2230560" cy="219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To rule or have control over peop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4" descr="C:\Program Files\Microsoft Office\Media\CntCD1\ClipArt1\j0078776.wmf"/>
          <p:cNvPicPr/>
          <p:nvPr/>
        </p:nvPicPr>
        <p:blipFill>
          <a:blip r:embed="rId2"/>
          <a:stretch/>
        </p:blipFill>
        <p:spPr>
          <a:xfrm>
            <a:off x="4879800" y="2860560"/>
            <a:ext cx="3124440" cy="2301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04040"/>
                </a:solidFill>
                <a:latin typeface="Book Antiqua"/>
              </a:rPr>
              <a:t>A proposal for a new law or to change or modify an already existing law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4" descr="C:\Program Files\Microsoft Office\Media\CntCD1\ClipArt2\j0229705.wmf"/>
          <p:cNvPicPr/>
          <p:nvPr/>
        </p:nvPicPr>
        <p:blipFill>
          <a:blip r:embed="rId2"/>
          <a:stretch/>
        </p:blipFill>
        <p:spPr>
          <a:xfrm>
            <a:off x="6000840" y="2786040"/>
            <a:ext cx="2031840" cy="169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Program Files\Microsoft Office\Media\CntCD1\ClipArt2\j0231084.wmf"/>
          <p:cNvPicPr/>
          <p:nvPr/>
        </p:nvPicPr>
        <p:blipFill>
          <a:blip r:embed="rId3"/>
          <a:stretch/>
        </p:blipFill>
        <p:spPr>
          <a:xfrm>
            <a:off x="571680" y="3049560"/>
            <a:ext cx="36590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Program Files\Microsoft Office\Media\CntCD1\ClipArt7\j0339256.wmf"/>
          <p:cNvPicPr/>
          <p:nvPr/>
        </p:nvPicPr>
        <p:blipFill>
          <a:blip r:embed="rId4"/>
          <a:stretch/>
        </p:blipFill>
        <p:spPr>
          <a:xfrm>
            <a:off x="5127480" y="5052960"/>
            <a:ext cx="1801800" cy="1805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95959"/>
                </a:solidFill>
                <a:latin typeface="Book Antiqua"/>
              </a:rPr>
              <a:t>The senate is an elected legislative body which is one of the two federal houses of the Australian parliam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                                     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Menu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6" descr="d:\Users\KyeH.STAWELL-PS\AppData\Local\Microsoft\Windows\Temporary Internet Files\Content.IE5\N07SHP1U\MCj04349310000[1].wmf"/>
          <p:cNvPicPr/>
          <p:nvPr/>
        </p:nvPicPr>
        <p:blipFill>
          <a:blip r:embed="rId2"/>
          <a:stretch/>
        </p:blipFill>
        <p:spPr>
          <a:xfrm>
            <a:off x="2500200" y="3071880"/>
            <a:ext cx="6357960" cy="2786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d:\Users\KyeH.STAWELL-PS\AppData\Local\Microsoft\Windows\Temporary Internet Files\Content.IE5\N07SHP1U\MPj03626080000[1].jpg"/>
          <p:cNvPicPr/>
          <p:nvPr/>
        </p:nvPicPr>
        <p:blipFill>
          <a:blip r:embed="rId3"/>
          <a:stretch/>
        </p:blipFill>
        <p:spPr>
          <a:xfrm>
            <a:off x="5643720" y="3571920"/>
            <a:ext cx="847440" cy="285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6:03Z</dcterms:created>
  <dc:creator>Education</dc:creator>
  <dc:description/>
  <dc:language>en-US</dc:language>
  <cp:lastModifiedBy>Education</cp:lastModifiedBy>
  <dcterms:modified xsi:type="dcterms:W3CDTF">2009-10-27T23:24:41Z</dcterms:modified>
  <cp:revision>15</cp:revision>
  <dc:subject/>
  <dc:title>Government</dc:title>
</cp:coreProperties>
</file>